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286-DB0D-4270-B3C3-D3B8D5E9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BFA-3C86-4DD5-AD59-2B0DD1A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FF8-B2AB-4CEC-AE72-40EB277D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FF9-34FC-4919-AA59-9C289871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489-A4EA-48C5-950F-ADB05404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BE0-1F93-42B0-8AA1-EA49185C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680-0D61-4F66-BA31-3BAA53C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7BE-910E-401B-B417-3E8AE8F4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609-45B7-4318-BEF3-EEC9D186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7ED-F921-4104-AA34-A7EEC33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F6C-F464-4A3D-BBF2-4A08FA8A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0D5-E399-4FBA-91CA-D8B496F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C2A0-DE12-4959-A891-3C410DF5A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ver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arly B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lanets diff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ght ye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cyc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ell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 for watch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ght and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s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clip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y Way Galax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teroids and com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8:00:15Z</dcterms:created>
  <dc:creator>Carly Bee</dc:creator>
  <dc:description/>
  <dc:language>en-US</dc:language>
  <cp:lastModifiedBy> </cp:lastModifiedBy>
  <dcterms:modified xsi:type="dcterms:W3CDTF">2012-03-19T18:13:42Z</dcterms:modified>
  <cp:revision>4</cp:revision>
  <dc:subject/>
  <dc:title>Universe</dc:title>
</cp:coreProperties>
</file>